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9.wmf" ContentType="image/x-wmf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0E88-CD53-4AAF-8BF1-74A41D6CC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E452-92FE-4BEF-91A3-0728FF8371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E3CC-8277-408D-A85E-3219301D3C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A44D-FD59-4032-9D8B-33AB63717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DC12-BDA9-4A10-B596-03462936B7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955C-16CE-4E38-B082-153E2B9052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4641-CA7B-49EB-9122-1B8F9F5DC2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2BF8-FB1E-42EF-B6DF-B90BF3D76D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3883-4D11-4480-B363-A2D2A3490E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ECF4-9E50-4526-BADA-27BA7B575F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527D-ED63-4274-9015-0D56A1267C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5627-04F1-479A-A5CA-CE01B5560D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B265-9D4D-4E90-98D9-2BBEAF04AD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227E-FE38-47CD-99C6-891E3E56F8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33B7-D12E-4AA6-813F-BB7273B426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881A-DB6D-4294-B357-8EEA320C0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9C74-D97D-4F3E-86C5-4334943514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18CB-6799-4E64-B684-8FF983B49D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1CFD-0B4C-4916-A317-06CD3DF23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2A7-1820-487E-AE48-C34D37979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FEAB-F28B-45C2-9FFC-9D620A4CED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D4DE-46FA-4D70-947A-F7A37E71B3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A886-B08F-43AC-B7ED-7390CA79A2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CC20-3915-4FAD-B2CB-BBAD16CEC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3812-725E-427E-BC76-5F9BDBB7D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768D-61A1-44F1-B778-70825AB4C7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9D55-BC41-43E9-8A3D-FF99A5EB41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 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997E-C91E-4385-8B93-4D1E6DA495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96F-0D36-44D3-8D28-7F6A0A58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D23-EFD6-41B2-96E7-1D8EC608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80D-F9A5-4781-AB3B-EE86883F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0F0-4561-4569-8F42-32E3D6C4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5606-9BBF-4B2F-A281-61A66B9B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316C-B02B-4625-B6A8-47E96D7A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BF45-FF23-4954-8E89-34BCF966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A96A-3C7D-4691-9D18-EE859C0D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01DF-A780-4B17-9796-865E69B3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E78E-F5D4-4C88-856C-6D510DE9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9E28-B96F-4ABE-82CF-858BB41A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F98-C9B6-4278-AE7C-9D03B404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91EE-81B2-4AF6-A3EA-E296F6E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7AC2-1FF5-47AD-8575-60BC17B0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6CC3-97A1-4299-BE76-F9FF1322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8009-2961-4C58-833D-0AEB73D9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9C2B-3E03-48D0-A196-5F50D064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7A9-7D33-4A26-82F9-83B72071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6B0-FAB9-4D7B-95A5-30BE749C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D30-C3C1-429D-87A6-E5E6E686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5EC-8916-4874-A1AC-FB6FC5A1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95F-4D02-45C1-9066-CCA8C0B2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642-A725-4FD7-9FFA-8A339958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D14-C906-4688-A6AD-9A5F2EB4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846C-6A37-485C-94DE-70A056432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066F-F215-4B9C-A740-D70F68571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85840" y="1219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j0304267"/>
          <p:cNvPicPr/>
          <p:nvPr/>
        </p:nvPicPr>
        <p:blipFill>
          <a:blip r:embed="rId1"/>
          <a:stretch/>
        </p:blipFill>
        <p:spPr>
          <a:xfrm>
            <a:off x="685800" y="1981080"/>
            <a:ext cx="1847880" cy="177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083185"/>
          <p:cNvPicPr/>
          <p:nvPr/>
        </p:nvPicPr>
        <p:blipFill>
          <a:blip r:embed="rId2"/>
          <a:stretch/>
        </p:blipFill>
        <p:spPr>
          <a:xfrm>
            <a:off x="6248520" y="3581280"/>
            <a:ext cx="18190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RomaK</cp:lastModifiedBy>
  <dcterms:modified xsi:type="dcterms:W3CDTF">2015-07-31T22:56:47Z</dcterms:modified>
  <cp:revision>8</cp:revision>
  <dc:subject>Our Solar System</dc:subject>
  <dc:title>Our Solar System</dc:title>
</cp:coreProperties>
</file>